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832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0760" y="134784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88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832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0760" y="3877920"/>
            <a:ext cx="264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95400" y="241200"/>
            <a:ext cx="709128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2920" y="387792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588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2920" y="1347840"/>
            <a:ext cx="40158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880" y="387792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15880" y="134784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1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2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3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4" marL="173160" indent="-173160">
              <a:spcBef>
                <a:spcPts val="700"/>
              </a:spcBef>
              <a:buClr>
                <a:srgbClr val="00599d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5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  <a:p>
            <a:pPr lvl="6" marL="173160" indent="-1731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99d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pic>
        <p:nvPicPr>
          <p:cNvPr id="2" name="Picture 33" descr="app"/>
          <p:cNvPicPr/>
          <p:nvPr/>
        </p:nvPicPr>
        <p:blipFill>
          <a:blip r:embed="rId2"/>
          <a:stretch/>
        </p:blipFill>
        <p:spPr>
          <a:xfrm>
            <a:off x="-4680" y="-9360"/>
            <a:ext cx="9148680" cy="977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4" descr="app"/>
          <p:cNvPicPr/>
          <p:nvPr/>
        </p:nvPicPr>
        <p:blipFill>
          <a:blip r:embed="rId3"/>
          <a:stretch/>
        </p:blipFill>
        <p:spPr>
          <a:xfrm>
            <a:off x="-4680" y="992160"/>
            <a:ext cx="9148680" cy="9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7" descr="logo_hidrografico_br_rgb"/>
          <p:cNvPicPr/>
          <p:nvPr/>
        </p:nvPicPr>
        <p:blipFill>
          <a:blip r:embed="rId4"/>
          <a:stretch/>
        </p:blipFill>
        <p:spPr>
          <a:xfrm>
            <a:off x="136440" y="93600"/>
            <a:ext cx="1727280" cy="773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8" descr="app"/>
          <p:cNvPicPr/>
          <p:nvPr/>
        </p:nvPicPr>
        <p:blipFill>
          <a:blip r:embed="rId5"/>
          <a:stretch/>
        </p:blipFill>
        <p:spPr>
          <a:xfrm>
            <a:off x="-9360" y="6581880"/>
            <a:ext cx="7481880" cy="79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" name="Picture 39" descr=""/>
          <p:cNvPicPr/>
          <p:nvPr/>
        </p:nvPicPr>
        <p:blipFill>
          <a:blip r:embed="rId6"/>
          <a:stretch/>
        </p:blipFill>
        <p:spPr>
          <a:xfrm>
            <a:off x="7480440" y="6232680"/>
            <a:ext cx="128880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IALA Questionnaire 2011 (M2)</a:t>
            </a:r>
            <a:br>
              <a:rPr sz="2800"/>
            </a:br>
            <a:r>
              <a:rPr b="1" lang="en-US" sz="2800" spc="-1" strike="noStrike">
                <a:solidFill>
                  <a:srgbClr val="00599d"/>
                </a:solidFill>
                <a:latin typeface="Tahoma"/>
              </a:rPr>
              <a:t>[2010 data]</a:t>
            </a:r>
            <a:endParaRPr b="0" lang="en-US" sz="2800" spc="-1" strike="noStrike">
              <a:solidFill>
                <a:srgbClr val="00599d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789360"/>
            <a:ext cx="8569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Victor Conceição – Hydrographic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Jorge Teles – Lighthouses Authority (P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santos.teles@marinha.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d"/>
                </a:solidFill>
                <a:latin typeface="Tahoma"/>
              </a:rPr>
              <a:t>Arlindo Santos – Lighthouses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414960" y="5877000"/>
            <a:ext cx="318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gis.hidrografico.pt/ia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DGPS &amp; lo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30040" y="1125360"/>
            <a:ext cx="8229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Trends by countries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Les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Same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Mo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Differential GPS (DG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Number of station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 1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8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68840" indent="-45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2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99d"/>
                </a:solidFill>
                <a:latin typeface="Tahoma"/>
              </a:rPr>
              <a:t>Loran –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Number of station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9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68840" indent="-45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Number of chains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Past year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68840" indent="-45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Future planned modification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23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599d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00280"/>
                <a:tab algn="l" pos="1523880"/>
                <a:tab algn="l" pos="3492360"/>
                <a:tab algn="l" pos="4836960"/>
                <a:tab algn="l" pos="592308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DGPS &amp; lo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" name="Rectangle 3"/>
          <p:cNvGraphicFramePr/>
          <p:nvPr/>
        </p:nvGraphicFramePr>
        <p:xfrm>
          <a:off x="0" y="1255680"/>
          <a:ext cx="9144000" cy="49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5680"/>
                    <a:ext cx="91440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Rectangle 3"/>
          <p:cNvGraphicFramePr/>
          <p:nvPr/>
        </p:nvGraphicFramePr>
        <p:xfrm>
          <a:off x="0" y="1052640"/>
          <a:ext cx="10404360" cy="49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1040436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DGPS &amp; lo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93640" y="1754280"/>
            <a:ext cx="7362360" cy="1007280"/>
            <a:chOff x="593640" y="1754280"/>
            <a:chExt cx="7362360" cy="1007280"/>
          </a:xfrm>
        </p:grpSpPr>
        <p:grpSp>
          <p:nvGrpSpPr>
            <p:cNvPr id="58" name=""/>
            <p:cNvGrpSpPr/>
            <p:nvPr/>
          </p:nvGrpSpPr>
          <p:grpSpPr>
            <a:xfrm>
              <a:off x="593640" y="1754280"/>
              <a:ext cx="7113240" cy="1007280"/>
              <a:chOff x="593640" y="1754280"/>
              <a:chExt cx="7113240" cy="1007280"/>
            </a:xfrm>
          </p:grpSpPr>
          <p:sp>
            <p:nvSpPr>
              <p:cNvPr id="59" name=""/>
              <p:cNvSpPr/>
              <p:nvPr/>
            </p:nvSpPr>
            <p:spPr>
              <a:xfrm>
                <a:off x="593640" y="2259000"/>
                <a:ext cx="691884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166520" y="1754280"/>
                <a:ext cx="540360" cy="1007280"/>
                <a:chOff x="7166520" y="1754280"/>
                <a:chExt cx="540360" cy="1007280"/>
              </a:xfrm>
            </p:grpSpPr>
            <p:sp>
              <p:nvSpPr>
                <p:cNvPr id="61" name=""/>
                <p:cNvSpPr/>
                <p:nvPr/>
              </p:nvSpPr>
              <p:spPr>
                <a:xfrm rot="16200000">
                  <a:off x="7018560" y="1902240"/>
                  <a:ext cx="503280" cy="20736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1840 h 207360"/>
                    <a:gd name="textAreaBottom" fmla="*/ 155520 h 20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 rot="5400000">
                  <a:off x="7018560" y="2405880"/>
                  <a:ext cx="502920" cy="20736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1840 h 207360"/>
                    <a:gd name="textAreaBottom" fmla="*/ 155520 h 20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358760" y="189900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359840" y="243540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" name=""/>
            <p:cNvSpPr/>
            <p:nvPr/>
          </p:nvSpPr>
          <p:spPr>
            <a:xfrm rot="10800000">
              <a:off x="7712280" y="198648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Rectangle 3"/>
          <p:cNvGraphicFramePr/>
          <p:nvPr/>
        </p:nvGraphicFramePr>
        <p:xfrm>
          <a:off x="179280" y="1733400"/>
          <a:ext cx="8964720" cy="435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3400"/>
                    <a:ext cx="8964720" cy="43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95400" y="241200"/>
            <a:ext cx="7091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analysis – DGPS &amp; lo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9640" y="2205000"/>
            <a:ext cx="7625160" cy="1007280"/>
            <a:chOff x="539640" y="2205000"/>
            <a:chExt cx="7625160" cy="1007280"/>
          </a:xfrm>
        </p:grpSpPr>
        <p:grpSp>
          <p:nvGrpSpPr>
            <p:cNvPr id="70" name=""/>
            <p:cNvGrpSpPr/>
            <p:nvPr/>
          </p:nvGrpSpPr>
          <p:grpSpPr>
            <a:xfrm>
              <a:off x="539640" y="2205000"/>
              <a:ext cx="7374240" cy="1007280"/>
              <a:chOff x="539640" y="2205000"/>
              <a:chExt cx="7374240" cy="1007280"/>
            </a:xfrm>
          </p:grpSpPr>
          <p:sp>
            <p:nvSpPr>
              <p:cNvPr id="71" name=""/>
              <p:cNvSpPr/>
              <p:nvPr/>
            </p:nvSpPr>
            <p:spPr>
              <a:xfrm>
                <a:off x="539640" y="2709720"/>
                <a:ext cx="717264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353360" y="2205000"/>
                <a:ext cx="560520" cy="1007280"/>
                <a:chOff x="7353360" y="2205000"/>
                <a:chExt cx="560520" cy="1007280"/>
              </a:xfrm>
            </p:grpSpPr>
            <p:sp>
              <p:nvSpPr>
                <p:cNvPr id="73" name=""/>
                <p:cNvSpPr/>
                <p:nvPr/>
              </p:nvSpPr>
              <p:spPr>
                <a:xfrm rot="16200000">
                  <a:off x="7209000" y="2349000"/>
                  <a:ext cx="503280" cy="214920"/>
                </a:xfrm>
                <a:custGeom>
                  <a:avLst/>
                  <a:gdLst>
                    <a:gd name="textAreaLeft" fmla="*/ 78480 w 503280"/>
                    <a:gd name="textAreaRight" fmla="*/ 440640 w 503280"/>
                    <a:gd name="textAreaTop" fmla="*/ 53640 h 214920"/>
                    <a:gd name="textAreaBottom" fmla="*/ 161280 h 21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 rot="5400000">
                  <a:off x="7209360" y="2853000"/>
                  <a:ext cx="502920" cy="214920"/>
                </a:xfrm>
                <a:custGeom>
                  <a:avLst/>
                  <a:gdLst>
                    <a:gd name="textAreaLeft" fmla="*/ 78480 w 502920"/>
                    <a:gd name="textAreaRight" fmla="*/ 440280 w 502920"/>
                    <a:gd name="textAreaTop" fmla="*/ 53640 h 214920"/>
                    <a:gd name="textAreaBottom" fmla="*/ 161280 h 21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3375" y="5400"/>
                      </a:moveTo>
                      <a:lnTo>
                        <a:pt x="16200" y="5400"/>
                      </a:ln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16200" y="16200"/>
                      </a:lnTo>
                      <a:lnTo>
                        <a:pt x="3375" y="16200"/>
                      </a:lnTo>
                      <a:close/>
                    </a:path>
                    <a:path w="21600" h="21600">
                      <a:moveTo>
                        <a:pt x="0" y="5400"/>
                      </a:moveTo>
                      <a:lnTo>
                        <a:pt x="675" y="5400"/>
                      </a:lnTo>
                      <a:lnTo>
                        <a:pt x="675" y="16200"/>
                      </a:lnTo>
                      <a:lnTo>
                        <a:pt x="0" y="16200"/>
                      </a:lnTo>
                      <a:close/>
                    </a:path>
                    <a:path w="21600" h="21600">
                      <a:moveTo>
                        <a:pt x="1350" y="5400"/>
                      </a:moveTo>
                      <a:lnTo>
                        <a:pt x="2700" y="5400"/>
                      </a:lnTo>
                      <a:lnTo>
                        <a:pt x="2700" y="16200"/>
                      </a:lnTo>
                      <a:lnTo>
                        <a:pt x="1350" y="1620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565760" y="2349720"/>
                  <a:ext cx="348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565400" y="2886120"/>
                  <a:ext cx="323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 rot="10800000">
              <a:off x="7921080" y="2435040"/>
              <a:ext cx="2437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Arial"/>
                </a:rPr>
                <a:t>Tr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27:50Z</dcterms:created>
  <dc:creator>field</dc:creator>
  <dc:description/>
  <dc:language>en-US</dc:language>
  <cp:lastModifiedBy>Divisão Navegação - NS</cp:lastModifiedBy>
  <dcterms:modified xsi:type="dcterms:W3CDTF">2012-05-16T00:37:20Z</dcterms:modified>
  <cp:revision>36</cp:revision>
  <dc:subject/>
  <dc:title>Slide 1</dc:title>
</cp:coreProperties>
</file>